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C10-1952-449E-AF4C-BD8E18A5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16D8-5098-4D45-86A1-EBA74487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F85C-F5E9-4B13-BCF8-65D1FBE2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1F4-F622-4C5F-866A-DD1DD98F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AA42-47C6-430E-B47B-BBF6990F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9A29-A4EF-4064-B56A-FD6E95F2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0E66-EC8A-49A1-B1F3-196C9004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F5A2-EF80-49A5-A218-3BAAFD68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1844-F01A-451C-999C-D20D029E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1F5C-C754-4299-A907-06C83EAF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EDF0-9806-48E8-B70A-76D81707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ED06-DAEE-471E-8386-82C1E3DA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2F9E-0488-4A54-B9A6-3A70E8E4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2804-76B7-4467-B00F-929EC81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EB0C-47E8-43C1-B288-5145127D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6296-8FA0-417D-AF71-3A731888A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5CE0-9434-48E7-AED1-3ADC22C9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06F-B1B1-474A-9354-F4B2DCA6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B1E-5A5A-4B0E-AA05-7F83BAEF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2F7-361A-4194-A485-E5C6F27B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0EB-6C16-454C-A1A7-FC6DCA0D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1A4-DBED-49DE-9727-FEB7E20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D95-00DD-48C5-ACCF-9988D6A5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D173-FE48-4C10-9300-50CEA97C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68B9-AFF2-4BB2-89C0-F0A1472C3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3BC3-0C9C-4036-9E9B-A85556B01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S777 Project 1~3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Developing Maya Plug-in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for motion related project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867280" y="5445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Kyungsuk David Le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FindFootPlants Command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Finds plant positions and duration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Enables parameter adjustments with GUI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Plants can be found for joints that match a specific string or use selected joint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411280" y="3573360"/>
            <a:ext cx="45370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FootPlantLocator DG Nod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364000" y="1773360"/>
          <a:ext cx="331344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773360"/>
                    <a:ext cx="33134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43308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A Locator Node is a transform DAGNode that visualizes our custom object in ways we lik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Locator Nodes are not renderab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Can be transformed using Maya’s U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ex&gt; FootPlants, Cameras , et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FixPlantPos Command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1403280" y="3284640"/>
            <a:ext cx="662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Usage: FixPlantPos [-r rootname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40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If no plant is selected, it finds all the skeleton roots, merges plants that have overlapping intervals, and adjusts heel &amp; ball plant positions to have proper distances. (Plants that occur earlier in time have priority in retaining its original position over other plants during double constraint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100000"/>
              </a:lnSpc>
              <a:spcBef>
                <a:spcPts val="40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If a plant is selected and this command is called, the selected plant maintains original position and near by plants are adjusted to insure proper distances from the selected pla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Plants may not always be in proper distance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25160" indent="-42516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Manual editing introduces artifact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25160" indent="-42516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ome automatic mechanism makes things easier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357336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FixPlantPos: Merging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933720"/>
            <a:ext cx="1871640" cy="43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1692360" y="4726080"/>
            <a:ext cx="57600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757080" y="57340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7670880" y="5950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1042920" y="1773360"/>
            <a:ext cx="748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Overlapping plants may exist due to incorrect interval edi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se should automatically get merged for proper behavio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844720" y="4726080"/>
            <a:ext cx="100800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3349800" y="4005360"/>
            <a:ext cx="2447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140360" y="4726080"/>
            <a:ext cx="64764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4726080"/>
            <a:ext cx="1368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6805440" y="4005360"/>
            <a:ext cx="50328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7524720" y="4726080"/>
            <a:ext cx="576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40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He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47260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916360" y="3357360"/>
            <a:ext cx="50328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788000" y="3357720"/>
            <a:ext cx="57600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2340000" y="2924280"/>
            <a:ext cx="345600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FixPlantPos: Fixing All Plants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1332000" y="3429000"/>
            <a:ext cx="503280" cy="431640"/>
          </a:xfrm>
          <a:prstGeom prst="rect">
            <a:avLst/>
          </a:prstGeom>
          <a:solidFill>
            <a:srgbClr val="f5b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1619280" y="4149720"/>
            <a:ext cx="576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5157720"/>
            <a:ext cx="748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7597800" y="537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1773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Only at most 2 plants can be active at the same time on a lim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2771640" y="4149720"/>
            <a:ext cx="1008360" cy="431640"/>
          </a:xfrm>
          <a:prstGeom prst="rect">
            <a:avLst/>
          </a:prstGeom>
          <a:solidFill>
            <a:srgbClr val="f5b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3429000"/>
            <a:ext cx="244764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067280" y="4149720"/>
            <a:ext cx="647640" cy="43164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003640" y="4149720"/>
            <a:ext cx="1368720" cy="43164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3429000"/>
            <a:ext cx="50328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4149720"/>
            <a:ext cx="576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342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He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4149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618920" y="2924280"/>
            <a:ext cx="865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979640" y="2924280"/>
            <a:ext cx="504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547640" y="249228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se should be within a fixed dista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08360" y="2924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203640" y="2924280"/>
            <a:ext cx="504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211280" y="2924280"/>
            <a:ext cx="7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4284720" y="2924280"/>
            <a:ext cx="1429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148000" y="2852640"/>
            <a:ext cx="144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5292720" y="2852640"/>
            <a:ext cx="35892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FixPlantPos: Partial Fixing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1474920" y="3068640"/>
            <a:ext cx="50328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1762200" y="3789360"/>
            <a:ext cx="576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479736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7740720" y="501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17733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e can spread out the influence iterativel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2914560" y="3789360"/>
            <a:ext cx="100800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419640" y="3068640"/>
            <a:ext cx="244764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4210200" y="3789360"/>
            <a:ext cx="647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5146560" y="3789360"/>
            <a:ext cx="136872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6300720" y="3068640"/>
            <a:ext cx="792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7594560" y="3789360"/>
            <a:ext cx="576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9384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He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393840" y="378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42764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562200" y="530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lected Pla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FixPlantPos: Partial Fixing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1474920" y="3068640"/>
            <a:ext cx="50328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1762200" y="3789360"/>
            <a:ext cx="576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479736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7740720" y="501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2050920" y="17733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e can spread out the influence iterativel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2914560" y="3789360"/>
            <a:ext cx="100800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419640" y="3068640"/>
            <a:ext cx="2447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4210200" y="3789360"/>
            <a:ext cx="647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5146560" y="3789360"/>
            <a:ext cx="136872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6300720" y="3068640"/>
            <a:ext cx="792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594560" y="3789360"/>
            <a:ext cx="576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39384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He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3840" y="378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42764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3562200" y="530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lected Pla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FixPlantPos: Partial Fixing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1474920" y="3068640"/>
            <a:ext cx="50328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762200" y="3789360"/>
            <a:ext cx="576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826920" y="479736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7740720" y="501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2050920" y="17733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e can spread out the influence iterativel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914560" y="3789360"/>
            <a:ext cx="100800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419640" y="3068640"/>
            <a:ext cx="2447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3789360"/>
            <a:ext cx="647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5146560" y="3789360"/>
            <a:ext cx="136872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6300720" y="3068640"/>
            <a:ext cx="792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7594560" y="3789360"/>
            <a:ext cx="576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9384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He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93840" y="378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42764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3562200" y="530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lected Pla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FixPlantPos: Partial Fixing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1474920" y="3068640"/>
            <a:ext cx="50328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1762200" y="3789360"/>
            <a:ext cx="576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826920" y="479736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7740720" y="501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2050920" y="177336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e can spread out the influence iterativel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2914560" y="3789360"/>
            <a:ext cx="100800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3419640" y="3068640"/>
            <a:ext cx="2447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4210200" y="3789360"/>
            <a:ext cx="64764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5146560" y="3789360"/>
            <a:ext cx="136872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6300720" y="3068640"/>
            <a:ext cx="7923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7594560" y="3789360"/>
            <a:ext cx="576360" cy="431640"/>
          </a:xfrm>
          <a:prstGeom prst="rect">
            <a:avLst/>
          </a:prstGeom>
          <a:solidFill>
            <a:srgbClr val="eb93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39384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He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393840" y="3789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427640" y="4076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562200" y="530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lected Pla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SolveFootSkate Command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45356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GUI that lets us set parameters and do foot skate solving easil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9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ets us choose between using the known foot plant locations or only use interval information of foot pla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49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r limb stretching lets the user choose betwee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4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No stretching at al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4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cale along local Y axi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4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o uniform sca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258920" y="357336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148360" y="2852640"/>
            <a:ext cx="36716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Objectives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mplify the process in doing various motion related research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Understand Maya’s architecture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reate custom objects and commands that do what we wan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Modify custom object attributes using Maya’s user interface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Get interactive response from Maya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MotionPathEdit Command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7561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GUI that lets us set curve segment numbers and do motion path editing easil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If only a transformable node is selected, a NURBS curve representing the motion will automatically be creat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If a transformable node and a curve is selected, the motion path editor will use the curve instead of creating a new on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357336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476360" y="3789360"/>
            <a:ext cx="648180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Questions?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1258920" y="357336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635280" y="2349360"/>
            <a:ext cx="2239920" cy="27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돋움"/>
              </a:rPr>
              <a:t>?</a:t>
            </a:r>
            <a:endParaRPr b="0" lang="en-US" sz="8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돋움"/>
              <a:ea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Types of Maya Plug-ins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Command Plug-in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Temporary object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Undo/Redo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ex&gt; group –empty –name UW –parent Wis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Dependency Graph Plug-ins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Creates a node that stays in the scene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Need to a mechanism to respond to changes in the environment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ex&gt; TransformN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굴림"/>
              </a:rPr>
              <a:t>DAG Hierarchy (Directed Acyclic Graph)</a:t>
            </a:r>
            <a:endParaRPr b="1" lang="en-US" sz="28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211280" y="1700280"/>
            <a:ext cx="4608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2 Types of nodes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Transform Nod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Shape Nod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DAGPath is needed to specify an object that is instanced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example) |Transform1|Transform3|Leaf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Object names can be reused as long as the same name does not appear on more than one DAG node with a common parent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600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cc6600"/>
                </a:solidFill>
                <a:latin typeface="굴림"/>
              </a:rPr>
              <a:t>Using Hypergraph to see DAG Hierarchy</a:t>
            </a:r>
            <a:endParaRPr b="1" lang="en-US" sz="24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12000" cy="50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굴림"/>
              </a:rPr>
              <a:t>Dependency Graph Nodes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2409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971640" y="3933720"/>
            <a:ext cx="770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Stays in the scene and affects each oth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DAGNodes are also a type of Dependency Graph N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Does not have to be acycli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Uses plugs to communicate with each oth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DG Node Attributes &amp; Plugs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372360" y="1628640"/>
          <a:ext cx="20016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628640"/>
                    <a:ext cx="20016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11280" y="1773360"/>
            <a:ext cx="51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628640"/>
            <a:ext cx="511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Each node can contain static and dynamic attribut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Plugs are used to connect the attributes that affect anoth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oes not have to be acyclic between nod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houldn’t have cycles in the graph of affected attribut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0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Push and Pull system to update the effect of chang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cc6600"/>
                </a:solidFill>
                <a:latin typeface="굴림"/>
              </a:rPr>
              <a:t>Using Hypergraph to see Dependency Graph</a:t>
            </a:r>
            <a:endParaRPr b="1" lang="en-US" sz="24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216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cc6600"/>
                </a:solidFill>
                <a:latin typeface="굴림"/>
              </a:rPr>
              <a:t>OpenBVH Command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6920" y="1484280"/>
            <a:ext cx="73454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Implemented in M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Loads a BVH file into Maya with GUI help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8243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9:34:35Z</dcterms:created>
  <dc:creator>Kyungsuk David Lee</dc:creator>
  <dc:description/>
  <dc:language>en-US</dc:language>
  <cp:lastModifiedBy>Kyungsuk David Lee</cp:lastModifiedBy>
  <dcterms:modified xsi:type="dcterms:W3CDTF">2006-05-04T02:22:50Z</dcterms:modified>
  <cp:revision>64</cp:revision>
  <dc:subject/>
  <dc:title>CS777 Project 1</dc:title>
</cp:coreProperties>
</file>