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1E1-E1A2-4F10-978B-F214C90E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22B-AFD4-419C-A567-92FB74E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F0D-6969-48D4-8BAE-2DB67320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8685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8685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E59-C721-4F43-9EC8-297295FD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6D4-72AD-4491-99B8-D542D780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8C8-15B5-4CD9-B5EC-C78859A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B63-5ACB-44B8-A0AC-F5A5611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35C-F096-42A0-8BE1-FFE6F3A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67816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C4F-5258-469B-A29E-461614D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2E8-C44D-4F92-B843-59FD66B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430-6AA2-4F67-9E1E-9523C35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B43-DF0A-4DE2-9510-B61F1CC5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D8B-9CDE-46FA-A3C3-49F921AE6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1447920"/>
            <a:ext cx="868680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f14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amasutra.com/features/20000411/sharp_01.ht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st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ode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ing and Parametric Inst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ve Solid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eep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 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 on this mesh won’t move, so they can be used to set mountain peaks and vall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defines th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h must not have dangling edges or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edge and every vertex must be part of a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define an “up”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epeated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ew vertices at the midpoint of each edge, and randomly push them up or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each face into four, as for the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523880"/>
            <a:ext cx="2286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99072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7200" y="312408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57200" y="1523880"/>
            <a:ext cx="533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7200" y="31240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200" y="4419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unta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2133720"/>
            <a:ext cx="123840" cy="13320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123840" cy="13320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123840" cy="13320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88620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352680" y="31240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4382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057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9810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33526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65724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352320" y="2057400"/>
            <a:ext cx="3049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352680" y="34290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724280" y="312372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876920" y="251424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886200" y="15238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205740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724280" y="251460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657240" y="20574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524400" y="3076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789360" y="1734840"/>
            <a:ext cx="0" cy="160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92720" y="2046240"/>
            <a:ext cx="0" cy="107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48240" y="279072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14960" y="19749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11600" y="17096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2738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51400" y="3208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2360" y="37180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2219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25960" y="26812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796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03720" y="2781360"/>
            <a:ext cx="0" cy="84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80040" y="2290680"/>
            <a:ext cx="936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0080" y="2951280"/>
            <a:ext cx="9360" cy="338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352680" y="312408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24382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19810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67480" y="33526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705360" y="15235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267760" y="2573280"/>
            <a:ext cx="9360" cy="5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57880" y="25113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43840" y="17589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40480" y="1965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99360" y="24843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0920" y="32367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2160" y="35290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1160" y="23605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45480" y="28605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31200" y="2738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00400" y="3789360"/>
            <a:ext cx="9720" cy="16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9800" y="3279600"/>
            <a:ext cx="936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248680" y="33462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96080" y="2514600"/>
            <a:ext cx="59076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86840" y="2573280"/>
            <a:ext cx="70488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229240" y="3124080"/>
            <a:ext cx="76212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543800" y="3355920"/>
            <a:ext cx="7048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919560" y="3429000"/>
            <a:ext cx="6238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1840" y="3610080"/>
            <a:ext cx="74772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333840" y="2057400"/>
            <a:ext cx="142920" cy="5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172200" y="2592360"/>
            <a:ext cx="16200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477120" y="2055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627960" y="1523880"/>
            <a:ext cx="7776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627960" y="1819440"/>
            <a:ext cx="6030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107120" y="1819440"/>
            <a:ext cx="1238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598800" y="2026800"/>
            <a:ext cx="50796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2057400"/>
            <a:ext cx="555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32600" y="2951280"/>
            <a:ext cx="5112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543800" y="2790360"/>
            <a:ext cx="5400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597800" y="2514240"/>
            <a:ext cx="9828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7097760" y="2422440"/>
            <a:ext cx="5983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477120" y="2057400"/>
            <a:ext cx="6206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023240" y="2422440"/>
            <a:ext cx="648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23240" y="2800080"/>
            <a:ext cx="58392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7116840" y="2422440"/>
            <a:ext cx="49032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07160" y="2583000"/>
            <a:ext cx="6796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238600" y="2583000"/>
            <a:ext cx="4788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7597440" y="2790720"/>
            <a:ext cx="641160" cy="55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910200" y="2932200"/>
            <a:ext cx="8388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316560" y="2582640"/>
            <a:ext cx="594000" cy="10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16560" y="2583000"/>
            <a:ext cx="7160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ptions for choosing where to move the new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orm random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ly distributed offset – small motions more 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al rule – e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lin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ing the offset of new points according to the subdivision level is ess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a scal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a ratio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at each level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k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s are frequently chosen based on “altitu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rd part is keeping track of all the indices and oth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lgorithm works for subdividing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2438280"/>
            <a:ext cx="723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lit_One_Level(struct Mesh terr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py old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all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and store new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and store new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all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new edges interior to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new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lace old vertices, edges and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division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94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an edge, create a new vertex and two new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edge must be split exactly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know endpoints of edge to create new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a face, creating new edges and new faces based on the old edges and the old and new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 knowledge of which new edges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 knowledge of new vertex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487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1676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2362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2362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2133720"/>
            <a:ext cx="152280" cy="15228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400800" y="2209320"/>
            <a:ext cx="762120" cy="2286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2209680"/>
            <a:ext cx="761760" cy="2286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81680" y="1676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16765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162560" y="167652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080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246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705360" y="3124080"/>
            <a:ext cx="685800" cy="129564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791320" y="4419720"/>
            <a:ext cx="914400" cy="12189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5105160"/>
            <a:ext cx="1828800" cy="5331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5105520"/>
            <a:ext cx="1295280" cy="5331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8001000" y="4495320"/>
            <a:ext cx="914400" cy="11430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7391160" y="3124080"/>
            <a:ext cx="609480" cy="13716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4419720"/>
            <a:ext cx="1295280" cy="759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620120" y="4495680"/>
            <a:ext cx="380880" cy="60984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705720" y="4419360"/>
            <a:ext cx="914400" cy="6858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90960" y="312408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5638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7391160" y="3123720"/>
            <a:ext cx="15238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629400" y="4114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553080" y="4267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79243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467480" y="5334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70866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tructure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represent a polygon mesh so that the subdivision operations are easy to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influencing the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nformation about faces, edges and vertices must we have, and how do we get a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we store edges explici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faces know about their ed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Subdivis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sion schemes can also be used where there is no “target”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im to replace a polygonal mesh with a smooth surface that approximates the 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sc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fly scheme (for tri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mull-Clark subdivision (for mostly rect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’s scheme (for tri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butterfly scheme (for tri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more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des the same way we have been discu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dge is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ace is split into 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are defined for computing the splitting vertex of each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rule for a uniform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an edge with endpoints that have degre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fore, all new interior vertices will have degre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a weighted sum of the neighboring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s defin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gamasutra.com/features/20000411/sharp_01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981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1981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85440" y="19810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9810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38280" y="198108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198108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438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800600" y="198072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19810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80024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714640" y="3200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32004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809880" y="32004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438280" y="32004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6520" y="320040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685800" y="32004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4572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124080"/>
            <a:ext cx="152640" cy="152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33920" y="1905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1905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38680" y="44956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905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47560" y="2631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9400" y="2666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8308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94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380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5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12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4012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98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26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162920" y="1676520"/>
                <a:ext cx="139068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ights: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685800" y="487692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each vertex by its weight and sum them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trol parameter – determines how closely the shape conforms to the original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n edge, how do we find a’s, b’s, c’s, and d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know about the number of edges out of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idea: Store the edges out of each vertex in an ord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447560" y="33526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33526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200400" y="335268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35268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20040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62720" y="33523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335268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562360" y="4572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476760" y="45720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562720" y="45720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572000" y="45720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200400" y="45720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437920" y="457200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1447560" y="4572000"/>
            <a:ext cx="9903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94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5943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4495680"/>
            <a:ext cx="152280" cy="152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32767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38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5867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58672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44956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16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09680" y="40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15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5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2152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25920" y="5943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7080" y="5943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3400" y="289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1880" y="289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92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48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sion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6 due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3 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tterfly scheme must be modified to deal with edges with an endpoint of 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, compute new vertex based on only the neighbor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raordina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edge has two extraordinary endpoints, average the results from each endpoint to get the new 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ified butterfly scheme is provably continuous about extraordinary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of formulates subdivision as a matrix operator and does eigen-analysis of subdivision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3200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600200" y="22860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600200" y="19807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143000" y="19807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2004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00200" y="320040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914040" y="32004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41911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828800" y="3962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19520" y="32000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2819520" y="22860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1980720" y="198072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143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37720" y="1981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60912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143000" y="2819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90360" y="32004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4191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200400" y="25905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00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56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84280" y="27432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080" y="19810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9000" y="16002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4600" y="15238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40400" y="3809880"/>
            <a:ext cx="58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73360" y="4191120"/>
            <a:ext cx="58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58960" y="4114800"/>
            <a:ext cx="58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962520" y="2590920"/>
                <a:ext cx="4952880" cy="23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ights: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  <m:r>
                          <m:t xml:space="preserve">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j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πj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10120" y="190512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xtraordinary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hes with boundaries, or sharp edges, pos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 are simpler: split edges on the boundary, but do not move the new vertex – place it at the edge 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 on the boundary will probably be extraord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 corners need special rules – beyond our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660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sh is uniform everywhere except the original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nterpolates the original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smoothed out the underlying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409920" cy="45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rfaces can be represented as the vanishing points of functions (defined over 3D 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where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,z)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are easy represent this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heres, ellipses, and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generally, quadratic surf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pes depends on all the parame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,c,d,e,f,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362320" y="3886200"/>
                <a:ext cx="4343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z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obs and Metaba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location of some point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int, define a function on the distance to a given poin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these functions up, and use them as an implici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, use Gaussian functions of distance, or other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results are called blobs or metab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with Bl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68520" y="594360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ed with POVray. Not everything is a blob, but the characters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ob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weights – jus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unctions, one common choic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352680" y="1447920"/>
                <a:ext cx="4622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ob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3276720"/>
                <a:ext cx="24890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ring Implicit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thods can render then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tracing - find intersections with Newton’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olygonal renderer, must convert to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ching Cub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sed for find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o-surf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 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volu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Surfaces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rganic looking shapes eg huma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extracting surfaces from volume representations, such as water surfaces in fluid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nside/outsid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r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control when anim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ooth versus Gen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gon meshes are very general, but hard to model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production context (film, game), creating a dense, accurate mesh requires lots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gest problem is smoot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sire a way to “smooth out” a polygonal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odel at a coarse level, and automatically fill in the smooth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division su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art of the ans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divis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: Start with something coarse, and refine it into smaller pieces, smoothing along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see how it can be used for modeling specific objects, and as a modeling scheme in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l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ivision for tessellating a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ivision for fract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subdivision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sellating a 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s are frequently parameterized in polar coordin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singularity at the 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sellation: The process of approximating a surface with a polygon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ption for tessellating a sp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around and up the sphere in constant step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Polygons are of wildly different sizes, and some vertices have very high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828800" y="2057400"/>
                <a:ext cx="4724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θ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φ</m:t>
                        </m:r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division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a course approximation to the sphere, that uses only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good candidates are platonic solids with triangular faces: Octahedron, Isosahed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uniformly sized faces and uniform vertex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he following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a new vertex in the middle of each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the vertices out to the surface of the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each triangular face into 4 triangles using the new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772040" y="1447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14840" y="1447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1447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772040" y="20574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315200" y="21333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20570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772040" y="2209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314840" y="21333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001000" y="198072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001000" y="14475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1981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314840" y="1981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2240" y="2743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ahed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4380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582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191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229240" y="4191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754380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00100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3809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772040" y="3809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8229240" y="3733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3733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4267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000640" y="4267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754380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8001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543800" y="4114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4114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8229240" y="3657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24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772400" y="3428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429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00064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777204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54344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822924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2960" y="4648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sahed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rst S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76360" y="1600200"/>
            <a:ext cx="471600" cy="14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160" y="1600200"/>
            <a:ext cx="141444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47960" y="1600200"/>
            <a:ext cx="110016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76360" y="2747880"/>
            <a:ext cx="15717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33160" y="2890440"/>
            <a:ext cx="9428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47960" y="2747520"/>
            <a:ext cx="1100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476360" y="3034800"/>
            <a:ext cx="47160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33160" y="2890800"/>
            <a:ext cx="141444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47960" y="2603520"/>
            <a:ext cx="156960" cy="143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47960" y="1599840"/>
            <a:ext cx="156960" cy="100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04920" y="2603520"/>
            <a:ext cx="94320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33160" y="2603520"/>
            <a:ext cx="157140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13372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8600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20968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13372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8760" y="263196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68920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9800" y="2935440"/>
            <a:ext cx="7596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0720" y="286848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24468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4240" y="339552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0040" y="349092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8160" y="343368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69040" y="1940040"/>
            <a:ext cx="7596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40080" y="217656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9920" y="2044800"/>
            <a:ext cx="7596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2160" y="201600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81640" y="255276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4320" y="254304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9680" y="301464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3280" y="300528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2440" y="335448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80120" y="359892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57640" y="358920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81440" y="360828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733920" y="16002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72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600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19810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600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266720" y="16765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440" y="22096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048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14800" y="3047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952880" y="27428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09720" y="259056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1444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276720" y="25909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89548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3657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48320" y="3657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334120" y="27432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1240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7960" y="3352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553080" y="16002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09588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29600" y="19810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16002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086600" y="16765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933960" y="22096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048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934320" y="3047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772400" y="27428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8229600" y="2590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1976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93396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95520" y="25909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28954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6576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657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153280" y="27432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1240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67480" y="335268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476760" y="3047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0481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01028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0481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00992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76760" y="22096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76760" y="2057400"/>
            <a:ext cx="75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2057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2096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72400" y="19810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086240" y="19810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3396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552720" y="20574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22960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619760" y="19810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761976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6201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153280" y="2590920"/>
            <a:ext cx="7632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629400" y="34290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629400" y="259056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800" y="464832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ace gets split into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19112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800600" y="419076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800240" y="49528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190760" y="495252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267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w vertex is degree 6, original vertices are degre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here Subdivision Advan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triangles at any given level are the sam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 the initial mesh having equal sized faces, and properties of the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vertices all have the same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h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gular (or unifor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newly generated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roperty we will see later in subdivision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it easier to analyze what happens to th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tion and degree of existing vertices does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traordinary 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e on the initial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ordinary points are those with degree different to the uniform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als are objects that show self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ord is overloaded – it can also mean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scapes and coastlines are considered fract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ntains have hills on them that have rocks on them and so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ents have gulfs that have harbors that have bays and so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sion is the natural way of building fractal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coarse features, Subdivide to fin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fractals come from different subdivision schemes and different parameters to those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03:21:26Z</dcterms:created>
  <dc:creator>Stephen Chenney</dc:creator>
  <dc:description/>
  <dc:language>en-US</dc:language>
  <cp:lastModifiedBy>Stephen Chenney</cp:lastModifiedBy>
  <dcterms:modified xsi:type="dcterms:W3CDTF">2004-12-08T21:49:56Z</dcterms:modified>
  <cp:revision>310</cp:revision>
  <dc:subject>CS 559 Computer Graphics</dc:subject>
  <dc:title>Subdivision</dc:title>
</cp:coreProperties>
</file>