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38E-01BE-4BE0-90A3-DFB00BD7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8685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7A29-4E57-4C5B-89A2-9CEC067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8685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A54-804B-4C49-A6D0-D4789D59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599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59984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8685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8685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868560"/>
            <a:ext cx="255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3BDD-68C8-49D6-AC6A-449F961E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17EF-8C0D-48F2-805A-0E48E8B8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1D8-BCE7-4943-9B3A-37274D44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9C2-DC4F-45F8-9405-D8B2BEC1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C267-3883-445A-A13F-55F010F0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67816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1CB-5EA9-4328-A869-64641F5F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5055-B2D0-4F00-BEE0-FF9A5B5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86856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5A09-A509-42B9-8BF5-323DC9F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599840"/>
            <a:ext cx="3867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868560"/>
            <a:ext cx="7924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55D-8CC0-4B3C-84DA-495B4F2E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248520"/>
            <a:ext cx="381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C8C8-3A6E-46DD-ADF8-654E157FC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1447920"/>
            <a:ext cx="8686800" cy="74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f14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amasutra.com/features/20000411/sharp_01.ht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st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model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ancing and Parametric Inst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ive Solid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eep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Terrai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 coars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 on this mesh won’t move, so they can be used to set mountain peaks and vall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defines the bound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h must not have dangling edges or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edge and every vertex must be part of a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define an “up”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repeated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new vertices at the midpoint of each edge, and randomly push them up or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each face into four, as for the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Terrai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9072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523880"/>
            <a:ext cx="2286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99072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457200" y="312408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457200" y="1523880"/>
            <a:ext cx="5335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457200" y="31240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200" y="44197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unta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2133720"/>
            <a:ext cx="123840" cy="13320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8108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819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743200"/>
            <a:ext cx="123840" cy="13320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2480" y="3657600"/>
            <a:ext cx="123840" cy="13320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15238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886200" y="3124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352680" y="312408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4382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2514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2057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9810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33526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65724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352320" y="2057400"/>
            <a:ext cx="30492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352680" y="3429000"/>
            <a:ext cx="13716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724280" y="312372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876920" y="251424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886200" y="1523880"/>
            <a:ext cx="9907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205740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4724280" y="251460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3657240" y="2057400"/>
            <a:ext cx="10666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524400" y="30765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789360" y="1734840"/>
            <a:ext cx="0" cy="160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92720" y="2046240"/>
            <a:ext cx="0" cy="107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48240" y="279072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3048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14960" y="19749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11600" y="17096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2738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51400" y="3208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32360" y="37180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11640" y="22194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25960" y="26812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796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03720" y="2781360"/>
            <a:ext cx="0" cy="847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4280040" y="2290680"/>
            <a:ext cx="9360" cy="1017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0080" y="2951280"/>
            <a:ext cx="9360" cy="338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352680" y="3124080"/>
            <a:ext cx="281952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20120" y="24382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19810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467480" y="3352680"/>
            <a:ext cx="123840" cy="1335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705360" y="152352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8267760" y="2573280"/>
            <a:ext cx="9360" cy="5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57880" y="251136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43840" y="17589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40480" y="1965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199360" y="248436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170920" y="323676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2160" y="35290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31160" y="23605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45480" y="286056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31200" y="27385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00400" y="3789360"/>
            <a:ext cx="9720" cy="160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419800" y="3279600"/>
            <a:ext cx="936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8248680" y="334620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18288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96080" y="2514600"/>
            <a:ext cx="590760" cy="5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286840" y="2573280"/>
            <a:ext cx="70488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229240" y="3124080"/>
            <a:ext cx="76212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543800" y="3355920"/>
            <a:ext cx="7048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919560" y="3429000"/>
            <a:ext cx="6238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6171840" y="3610080"/>
            <a:ext cx="747720" cy="65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6333840" y="2057400"/>
            <a:ext cx="142920" cy="5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6172200" y="2592360"/>
            <a:ext cx="162000" cy="167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477120" y="2055960"/>
            <a:ext cx="150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627960" y="1523880"/>
            <a:ext cx="7776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6627960" y="1819440"/>
            <a:ext cx="603000" cy="22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107120" y="1819440"/>
            <a:ext cx="12384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6598800" y="2026800"/>
            <a:ext cx="507960" cy="40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2057400"/>
            <a:ext cx="555480" cy="8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032600" y="2951280"/>
            <a:ext cx="51120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543800" y="2790360"/>
            <a:ext cx="5400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597800" y="2514240"/>
            <a:ext cx="9828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7097760" y="2422440"/>
            <a:ext cx="5983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6477120" y="2057400"/>
            <a:ext cx="62064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023240" y="2422440"/>
            <a:ext cx="6480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23240" y="2800080"/>
            <a:ext cx="58392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7116840" y="2422440"/>
            <a:ext cx="49032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7607160" y="2583000"/>
            <a:ext cx="6796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238600" y="2583000"/>
            <a:ext cx="4788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7597440" y="2790720"/>
            <a:ext cx="641160" cy="55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6910200" y="2932200"/>
            <a:ext cx="8388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6316560" y="2582640"/>
            <a:ext cx="594000" cy="10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316560" y="2583000"/>
            <a:ext cx="71604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Terrain Detai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options for choosing where to move the new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form random 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rmally distributed offset – small motions more lik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ural rule – e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lin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ing the offset of new points according to the subdivision level is ess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ine a scale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a ratio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nd at each level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k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ors are frequently chosen based on “altitud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Terrain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ard part is keeping track of all the indices and oth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lgorithm works for subdividing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2438280"/>
            <a:ext cx="7239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lit_One_Level(struct Mesh terr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py old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all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and store new ve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and store new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all 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new edges interior to 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new 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lace old vertices, edges and 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division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5594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an edge, create a new vertex and two new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edge must be split exactly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know endpoints of edge to create new ve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 a face, creating new edges and new faces based on the old edges and the old and new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 knowledge of which new edges to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 knowledge of new vertex 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324480" y="16002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848720" y="1600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00800" y="1676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324480" y="23623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2362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86600" y="2133720"/>
            <a:ext cx="152280" cy="15228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400800" y="2209320"/>
            <a:ext cx="762120" cy="2286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2209680"/>
            <a:ext cx="761760" cy="2286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6781680" y="16765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238880" y="167652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7162560" y="167652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0080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24680" y="1752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6705360" y="3124080"/>
            <a:ext cx="685800" cy="129564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791320" y="4419720"/>
            <a:ext cx="914400" cy="121896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791320" y="5105160"/>
            <a:ext cx="1828800" cy="53316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620120" y="5105520"/>
            <a:ext cx="1295280" cy="53316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8001000" y="4495320"/>
            <a:ext cx="914400" cy="11430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 flipV="1">
            <a:off x="7391160" y="3124080"/>
            <a:ext cx="609480" cy="13716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4419720"/>
            <a:ext cx="1295280" cy="7596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620120" y="4495680"/>
            <a:ext cx="380880" cy="60984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6705720" y="4419360"/>
            <a:ext cx="914400" cy="685800"/>
          </a:xfrm>
          <a:prstGeom prst="line">
            <a:avLst/>
          </a:prstGeom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90960" y="3124080"/>
            <a:ext cx="160020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56386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7391160" y="3123720"/>
            <a:ext cx="152388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6629400" y="41144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6553080" y="42670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7924320" y="4190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7467480" y="53341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70866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tructure Iss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must represent a polygon mesh so that the subdivision operations are easy to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s influencing the data stru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nformation about faces, edges and vertices must we have, and how do we get at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we store edges explicitl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faces know about their ed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neral Subdivision Sc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ivision schemes can also be used where there is no “target”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aim to replace a polygonal mesh with a smooth surface that approximates the coarse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schem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fly scheme (for triangular mes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mull-Clark subdivision (for mostly rectangular mes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p’s scheme (for triangular mes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ified butterfly scheme (for triangular mes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more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ivides the same way we have been discu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edge is spl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ace is split into f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are defined for computing the splitting vertex of each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rule for a uniform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litting an edge with endpoints that have degree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before, all new interior vertices will have degree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 a weighted sum of the neighboring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ights define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gamasutra.com/features/20000411/sharp_01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1981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19810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85440" y="19810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32004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19810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38280" y="198108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09880" y="198108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438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800600" y="198072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1320" y="19810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800240" y="3200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714640" y="3200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32004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809880" y="32004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 flipV="1">
            <a:off x="2438280" y="32004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1676520" y="320040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 flipV="1">
            <a:off x="685800" y="32004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76520" y="457200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09880" y="4572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581280" y="3124080"/>
            <a:ext cx="152640" cy="152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242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33920" y="1905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1905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7816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38680" y="44956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73392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362320" y="31240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19051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31240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47560" y="26319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9400" y="2666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83080" y="152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659400" y="4572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380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5320" y="4572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0128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40120" y="1523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98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26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7162920" y="1676520"/>
                <a:ext cx="139068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ights: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: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: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w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:</m:t>
                        </m:r>
                        <m:r>
                          <m:t xml:space="preserve">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685800" y="487692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y each vertex by its weight and sum them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control parameter – determines how closely the shape conforms to the original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n edge, how do we find a’s, b’s, c’s, and d’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know about the number of edges out of 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idea: Store the edges out of each vertex in an ordered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14600" y="33526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3352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447560" y="33526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7920" y="4572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4600" y="33526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200400" y="335268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572000" y="3352680"/>
            <a:ext cx="99072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3200400" y="4572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562720" y="3352320"/>
            <a:ext cx="99036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3080" y="3352680"/>
            <a:ext cx="106704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562360" y="45720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6476760" y="45720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562720" y="457200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572000" y="4572000"/>
            <a:ext cx="9907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3200400" y="4572000"/>
            <a:ext cx="13716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437920" y="4572000"/>
            <a:ext cx="7621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 flipV="1">
            <a:off x="1447560" y="4572000"/>
            <a:ext cx="9903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438280" y="59436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59436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43400" y="4495680"/>
            <a:ext cx="152280" cy="152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8640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27672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77120" y="327672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54380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00800" y="5867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495680" y="58672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4495680"/>
            <a:ext cx="15264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371600" y="44956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362320" y="5867280"/>
            <a:ext cx="152280" cy="152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09680" y="40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11520" y="4038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4520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2152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25920" y="5943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7080" y="59436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63400" y="289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1880" y="2895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62192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48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ivision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work 6 due in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3 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tterfly scheme must be modified to deal with edges with an endpoint of degre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at case, compute new vertex based on only the neighbors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traordina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edge has two extraordinary endpoints, average the results from each endpoint to get the new en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ified butterfly scheme is provably continuous about extraordinary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of formulates subdivision as a matrix operator and does eigen-analysis of subdivision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Sche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600200" y="3200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600200" y="228600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600200" y="198072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143000" y="198072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600200" y="320040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00200" y="320040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914040" y="320040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14400" y="4191120"/>
            <a:ext cx="9144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828800" y="3962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2819520" y="320004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2819520" y="22860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1980720" y="198072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1143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837720" y="19810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609120" y="36576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 flipV="1">
            <a:off x="1143000" y="28195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90360" y="32004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5238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752480" y="4191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411480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124080" y="31240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43200" y="22096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512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200400" y="259056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200400" y="32004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200400" y="3200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438280" y="3124080"/>
            <a:ext cx="152640" cy="152640"/>
          </a:xfrm>
          <a:prstGeom prst="ellipse">
            <a:avLst/>
          </a:prstGeom>
          <a:solidFill>
            <a:srgbClr val="f80000"/>
          </a:solidFill>
          <a:ln w="9360">
            <a:solidFill>
              <a:srgbClr val="f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204560" y="2860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84280" y="27432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27080" y="19810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89000" y="160020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74600" y="1523880"/>
            <a:ext cx="40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40400" y="3809880"/>
            <a:ext cx="58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773360" y="4191120"/>
            <a:ext cx="58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58960" y="4114800"/>
            <a:ext cx="58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962520" y="2590920"/>
                <a:ext cx="4952880" cy="23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eights: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  <m:e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5</m:t>
                        </m:r>
                        <m:r>
                          <m:t xml:space="preserve">: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v</m:t>
                            </m:r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πj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4</m:t>
                                        </m:r>
                                        <m:r>
                                          <m:t xml:space="preserve">πj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110120" y="190512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xtraordinary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hes with boundaries, or sharp edges, pos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undaries are simpler: split edges on the boundary, but do not move the new vertex – place it at the edge mid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tices on the boundary will probably be extraord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 corners need special rules – beyond our 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dified Butterfly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660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esh is uniform everywhere except the original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nterpolates the original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has smoothed out the underlying 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409920" cy="4586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urfaces can be represented as the vanishing points of functions (defined over 3D sp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where a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(x,y,z)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objects are easy represent this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heres, ellipses, and sim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generally, quadratic surfa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pes depends on all the paramet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b,c,d,e,f,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362320" y="3886200"/>
                <a:ext cx="4343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e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fz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obs and Metaba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the location of some point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int, define a function on the distance to a given point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 these functions up, and use them as an implicit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, use Gaussian functions of distance, or other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results are called blobs or metab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with Blob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668520" y="594360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ndered with POVray. Not everything is a blob, but the characters 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ob M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weights – jus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unctions, one common choic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352680" y="1447920"/>
                <a:ext cx="462276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ob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971800" y="3276720"/>
                <a:ext cx="248904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ndering Implicit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methods can render then direc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tracing - find intersections with Newton’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olygonal renderer, must convert to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rching Cub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used for find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so-surfa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vel s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n volum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Surfaces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organic looking shapes eg human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extracting surfaces from volume representations, such as water surfaces in fluid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inside/outsid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to re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 to control when anim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mooth versus Gene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gon meshes are very general, but hard to model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production context (film, game), creating a dense, accurate mesh requires lots of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gest problem is smooth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sire a way to “smooth out” a polygonal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can model at a coarse level, and automatically fill in the smooth pa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division surfa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part of the ans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division Sche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: Start with something coarse, and refine it into smaller pieces, smoothing along th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see how it can be used for modeling specific objects, and as a modeling scheme in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le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division for tessellating a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division for fractal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subdivision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ssellating a Sp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heres are frequently parameterized in polar coordin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e singularity at the p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sellation: The process of approximating a surface with a polygon 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ption for tessellating a sp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around and up the sphere in constant steps o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: Polygons are of wildly different sizes, and some vertices have very high de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828800" y="2057400"/>
                <a:ext cx="4724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θ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φ</m:t>
                        </m:r>
                        <m:r>
                          <m:t xml:space="preserve">≤</m:t>
                        </m:r>
                        <m:r>
                          <m:t xml:space="preserve">π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bdivision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with a course approximation to the sphere, that uses only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good candidates are platonic solids with triangular faces: Octahedron, Isosahed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have uniformly sized faces and uniform vertex de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the following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 a new vertex in the middle of each 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 the vertices out to the surface of the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each triangular face into 4 triangles using the new ver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772040" y="14479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314840" y="14479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144792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772040" y="20574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7315200" y="21333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20570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772040" y="22096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314840" y="21333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8001000" y="198072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8001000" y="1447560"/>
            <a:ext cx="76320" cy="533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198108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314840" y="1981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2240" y="274320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ctahed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010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7543800" y="34290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5820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4191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8229240" y="41911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754380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800100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001000" y="3809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772040" y="3809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240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8229240" y="3733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373392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4267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8000640" y="42670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00100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7543800" y="41911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8001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543800" y="4114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1000" y="41148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8229240" y="36576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543800" y="365760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240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772400" y="34286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1000" y="3429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00064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777204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543440" y="3657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8229240" y="3657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92960" y="4648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osahed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irst S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476360" y="1600200"/>
            <a:ext cx="471600" cy="143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160" y="1600200"/>
            <a:ext cx="141444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47960" y="1600200"/>
            <a:ext cx="110016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476360" y="2747880"/>
            <a:ext cx="15717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33160" y="2890440"/>
            <a:ext cx="9428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947960" y="2747520"/>
            <a:ext cx="11001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1476360" y="3034800"/>
            <a:ext cx="471600" cy="100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33160" y="2890800"/>
            <a:ext cx="1414440" cy="11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947960" y="2603520"/>
            <a:ext cx="156960" cy="1434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947960" y="1599840"/>
            <a:ext cx="156960" cy="1003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04920" y="2603520"/>
            <a:ext cx="94320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33160" y="2603520"/>
            <a:ext cx="157140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13372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8600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220968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213372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98760" y="263196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68920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09800" y="2935440"/>
            <a:ext cx="7596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0720" y="286848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24468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24240" y="339552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70040" y="349092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8160" y="343368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69040" y="1940040"/>
            <a:ext cx="7596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240080" y="217656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79920" y="2044800"/>
            <a:ext cx="7596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2160" y="201600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81640" y="255276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4320" y="254304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49680" y="301464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3280" y="300528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62440" y="3354480"/>
            <a:ext cx="76320" cy="7596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80120" y="3598920"/>
            <a:ext cx="7596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57640" y="358920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81440" y="3608280"/>
            <a:ext cx="76320" cy="76320"/>
          </a:xfrm>
          <a:prstGeom prst="ellipse">
            <a:avLst/>
          </a:prstGeom>
          <a:solidFill>
            <a:srgbClr val="f8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733920" y="16002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276720" y="2057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16002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410080" y="198108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160020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266720" y="1676520"/>
            <a:ext cx="381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114440" y="22096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3048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114800" y="3047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4952880" y="2742840"/>
            <a:ext cx="838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409720" y="259056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1444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276720" y="25909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2895480"/>
            <a:ext cx="5331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9880" y="365760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648320" y="3657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334120" y="27432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14800" y="312408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911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47960" y="335268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553080" y="16002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095880" y="20574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160020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29600" y="198108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16002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7086600" y="167652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933960" y="2209680"/>
            <a:ext cx="1522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2895480"/>
            <a:ext cx="3812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304812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934320" y="3047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772400" y="274284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8229600" y="259056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761976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93396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6095520" y="2590920"/>
            <a:ext cx="83844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5880" y="28954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629400" y="36576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467480" y="36576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8153280" y="274320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12408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012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467480" y="335268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29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6476760" y="304776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304812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701028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72400" y="30481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700992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476760" y="22096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476760" y="2057400"/>
            <a:ext cx="759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53080" y="2057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2096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72400" y="1981080"/>
            <a:ext cx="45720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086240" y="198108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933960" y="205740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552720" y="2057400"/>
            <a:ext cx="38124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0120" y="205740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229600" y="1981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619760" y="19810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7619760" y="342864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6201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153280" y="2590920"/>
            <a:ext cx="76320" cy="99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629400" y="342900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629400" y="2590560"/>
            <a:ext cx="30492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5909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800" y="464832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face gets split into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05320" y="419112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57913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4800600" y="4190760"/>
            <a:ext cx="129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49528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800240" y="495288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190760" y="4952520"/>
            <a:ext cx="6094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426708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ew vertex is degree 6, original vertices are degre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81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here Subdivision Advant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e triangles at any given level are the sam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s on the initial mesh having equal sized faces, and properties of the 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vertices all have the same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h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gular (or unifor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newly generated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roperty we will see later in subdivision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it easier to analyze what happens to the su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ation and degree of existing vertices does 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n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xtraordinary poin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ie on the initial 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ordinary points are those with degree different to the uniform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4724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actal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als are objects that show self 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ord is overloaded – it can also mean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scapes and coastlines are considered fractal in 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untains have hills on them that have rocks on them and so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ents have gulfs that have harbors that have bays and so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division is the natural way of building fractal su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coarse features, Subdivide to finer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s of fractals come from different subdivision schemes and different parameters to those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University of Wisconsin, CS559 Fall 200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3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03:21:26Z</dcterms:created>
  <dc:creator>Stephen Chenney</dc:creator>
  <dc:description/>
  <dc:language>en-US</dc:language>
  <cp:lastModifiedBy>Stephen Chenney</cp:lastModifiedBy>
  <dcterms:modified xsi:type="dcterms:W3CDTF">2004-12-08T21:49:56Z</dcterms:modified>
  <cp:revision>310</cp:revision>
  <dc:subject>CS 559 Computer Graphics</dc:subject>
  <dc:title>Subdivision</dc:title>
</cp:coreProperties>
</file>